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A721-E58F-4748-8B11-8AFAE705B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EB82E-033C-49B7-A6C6-A34F2564C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DD433-3539-45CA-8513-0B29F33BC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210D-AD05-46F6-B951-618B1D510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AFF41-7504-4DB3-BE1E-6D5D3CED66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15C17-8C29-406F-8246-5D6E5E6FC4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60625-1212-4DE6-8DE2-3DB5879593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ACD33-727B-49D4-94B8-F4A78645E7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8C1D3-B0B2-42FD-A123-D32C591D3C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BA5C6-9557-480D-A3F4-20EA339105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929AC-22F2-4585-B93F-F51039DC4F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7A58-6B3E-423E-9B0F-B84B47EF6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2EF91-DC61-4F00-9DB2-BE5F2C6788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BFD0F-77E8-4138-BFCB-FDD58A1B9F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65C27-EEC9-4B35-9851-ADA84C46FA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23683-19F9-4171-9BF3-81ED1223BC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BF77E-EDF8-4B33-A8E4-2AE22EBC48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9B1E-CAB7-4D0E-A1FC-531EAE138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109C-1891-4EDF-BEF4-931AE865D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8F12-005C-4139-B7F0-549E209B4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2DB7-2DAA-4F5A-A5FC-B696D5CE7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22440-17F2-4D47-8042-C10BF6E8F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D667-4499-41EB-956C-5405A65D9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D858-DBFC-4D61-A8CF-7FA43311B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3333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399960"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F59E-F110-487B-8A8C-DE797369773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6"/>
          <p:cNvGrpSpPr/>
          <p:nvPr/>
        </p:nvGrpSpPr>
        <p:grpSpPr>
          <a:xfrm>
            <a:off x="0" y="1066680"/>
            <a:ext cx="2867040" cy="3156120"/>
            <a:chOff x="0" y="1066680"/>
            <a:chExt cx="2867040" cy="3156120"/>
          </a:xfrm>
        </p:grpSpPr>
        <p:sp>
          <p:nvSpPr>
            <p:cNvPr id="48" name="Rectangle 7"/>
            <p:cNvSpPr/>
            <p:nvPr/>
          </p:nvSpPr>
          <p:spPr>
            <a:xfrm>
              <a:off x="573120" y="3582000"/>
              <a:ext cx="576000" cy="640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8"/>
            <p:cNvSpPr/>
            <p:nvPr/>
          </p:nvSpPr>
          <p:spPr>
            <a:xfrm>
              <a:off x="1716120" y="1690200"/>
              <a:ext cx="574560" cy="6426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2281320" y="1066680"/>
              <a:ext cx="585720" cy="634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1141560" y="3582000"/>
              <a:ext cx="583920" cy="6408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2281320" y="1690200"/>
              <a:ext cx="585720" cy="6426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1141560" y="2323440"/>
              <a:ext cx="583920" cy="6328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0" y="2323440"/>
              <a:ext cx="582480" cy="632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1716120" y="2323440"/>
              <a:ext cx="574560" cy="632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573120" y="2946960"/>
              <a:ext cx="576000" cy="644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16"/>
            <p:cNvSpPr/>
            <p:nvPr/>
          </p:nvSpPr>
          <p:spPr>
            <a:xfrm>
              <a:off x="1141560" y="2946960"/>
              <a:ext cx="583920" cy="6440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" name="Picture 17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ldNum" idx="2"/>
          </p:nvPr>
        </p:nvSpPr>
        <p:spPr>
          <a:xfrm>
            <a:off x="8378640" y="6397200"/>
            <a:ext cx="306360" cy="30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6132-3DE6-4930-831C-7C07FEDFC519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Calibri"/>
              </a:rPr>
              <a:t>Feedbacks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ibeiro de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ão José dos Camp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opulations Growth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tock: population(t) = population(t – dt) + growth x d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itial stocks: population = 60, 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t =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t = 1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un time = 7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flow: growth = population x 50%, population x 90%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eedback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2421000"/>
            <a:ext cx="8229600" cy="382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eedbacks have limit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opulation Growth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Stock: population(t) = population(t – dt) + growth x d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itial stocks: population = 60, 2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t =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t = 1 ye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Run time = 7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low: growth = population x 50%, population x 9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What would happen if growth rates decrease 20% each year and we simulate until time 30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9800" y="40428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Last lectur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" name="Line 2"/>
          <p:cNvSpPr/>
          <p:nvPr/>
        </p:nvSpPr>
        <p:spPr>
          <a:xfrm>
            <a:off x="2587680" y="281448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5384880" y="2822400"/>
            <a:ext cx="98568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401840" y="2475000"/>
            <a:ext cx="12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459480" y="25322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t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Group 6"/>
          <p:cNvGrpSpPr/>
          <p:nvPr/>
        </p:nvGrpSpPr>
        <p:grpSpPr>
          <a:xfrm>
            <a:off x="3573360" y="2347920"/>
            <a:ext cx="1800360" cy="936720"/>
            <a:chOff x="3573360" y="2347920"/>
            <a:chExt cx="1800360" cy="936720"/>
          </a:xfrm>
        </p:grpSpPr>
        <p:sp>
          <p:nvSpPr>
            <p:cNvPr id="104" name="Rectangle 7"/>
            <p:cNvSpPr/>
            <p:nvPr/>
          </p:nvSpPr>
          <p:spPr>
            <a:xfrm>
              <a:off x="3573360" y="2347920"/>
              <a:ext cx="1800360" cy="936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8"/>
            <p:cNvSpPr/>
            <p:nvPr/>
          </p:nvSpPr>
          <p:spPr>
            <a:xfrm>
              <a:off x="4026240" y="2347920"/>
              <a:ext cx="89388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Stock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4220640"/>
            <a:ext cx="85345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Two ways to increase stock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tocks act as delays or buffer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tocks allow inflows and outflows to be decoupl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800" y="40428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eedback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83920"/>
            <a:ext cx="853452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eedback is how the system affect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2587680" y="3244680"/>
            <a:ext cx="98568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5384880" y="32576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401840" y="2908440"/>
            <a:ext cx="12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459480" y="29638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t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7"/>
          <p:cNvSpPr/>
          <p:nvPr/>
        </p:nvSpPr>
        <p:spPr>
          <a:xfrm flipH="1">
            <a:off x="3849840" y="3249720"/>
            <a:ext cx="1382400" cy="11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539" y="0"/>
                </a:moveTo>
                <a:cubicBezTo>
                  <a:pt x="3769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5257"/>
                  <a:pt x="21600" y="8915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8"/>
          <p:cNvGrpSpPr/>
          <p:nvPr/>
        </p:nvGrpSpPr>
        <p:grpSpPr>
          <a:xfrm>
            <a:off x="3573360" y="2779560"/>
            <a:ext cx="1800360" cy="936720"/>
            <a:chOff x="3573360" y="2779560"/>
            <a:chExt cx="1800360" cy="936720"/>
          </a:xfrm>
        </p:grpSpPr>
        <p:sp>
          <p:nvSpPr>
            <p:cNvPr id="115" name="Rectangle 9"/>
            <p:cNvSpPr/>
            <p:nvPr/>
          </p:nvSpPr>
          <p:spPr>
            <a:xfrm>
              <a:off x="3573360" y="2779560"/>
              <a:ext cx="1800360" cy="936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3893040" y="2779560"/>
              <a:ext cx="11606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Rectangle 11"/>
          <p:cNvSpPr/>
          <p:nvPr/>
        </p:nvSpPr>
        <p:spPr>
          <a:xfrm>
            <a:off x="3849840" y="43322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opulation growth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5384880" y="347328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546200" y="3124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Bir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372360" y="3179880"/>
            <a:ext cx="19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5"/>
          <p:cNvSpPr/>
          <p:nvPr/>
        </p:nvSpPr>
        <p:spPr>
          <a:xfrm flipH="1">
            <a:off x="2745720" y="3465360"/>
            <a:ext cx="1382760" cy="113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539" y="0"/>
                </a:moveTo>
                <a:cubicBezTo>
                  <a:pt x="3769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5257"/>
                  <a:pt x="21600" y="8915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700360" y="4724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ert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2587680" y="3460680"/>
            <a:ext cx="985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003640" y="1700280"/>
            <a:ext cx="18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ort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9"/>
          <p:cNvSpPr/>
          <p:nvPr/>
        </p:nvSpPr>
        <p:spPr>
          <a:xfrm flipH="1" rot="10800000">
            <a:off x="4761360" y="2400480"/>
            <a:ext cx="1538280" cy="106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958" y="0"/>
                </a:moveTo>
                <a:cubicBezTo>
                  <a:pt x="4479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5553"/>
                  <a:pt x="21600" y="9506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10"/>
          <p:cNvGrpSpPr/>
          <p:nvPr/>
        </p:nvGrpSpPr>
        <p:grpSpPr>
          <a:xfrm>
            <a:off x="3571920" y="2995560"/>
            <a:ext cx="1801800" cy="938160"/>
            <a:chOff x="3571920" y="2995560"/>
            <a:chExt cx="1801800" cy="938160"/>
          </a:xfrm>
        </p:grpSpPr>
        <p:sp>
          <p:nvSpPr>
            <p:cNvPr id="128" name="Rectangle 11"/>
            <p:cNvSpPr/>
            <p:nvPr/>
          </p:nvSpPr>
          <p:spPr>
            <a:xfrm>
              <a:off x="3571920" y="2995560"/>
              <a:ext cx="1801800" cy="938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>
              <a:off x="3621240" y="2995560"/>
              <a:ext cx="1703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Populati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Albedo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1" name="Picture 2" descr="image.png"/>
          <p:cNvPicPr/>
          <p:nvPr/>
        </p:nvPicPr>
        <p:blipFill>
          <a:blip r:embed="rId1"/>
          <a:srcRect l="0" t="0" r="0" b="11862"/>
          <a:stretch/>
        </p:blipFill>
        <p:spPr>
          <a:xfrm>
            <a:off x="2776680" y="619200"/>
            <a:ext cx="4249440" cy="4124160"/>
          </a:xfrm>
          <a:prstGeom prst="rect">
            <a:avLst/>
          </a:prstGeom>
          <a:ln w="0">
            <a:noFill/>
          </a:ln>
        </p:spPr>
      </p:pic>
      <p:sp>
        <p:nvSpPr>
          <p:cNvPr id="132" name="Line 3"/>
          <p:cNvSpPr/>
          <p:nvPr/>
        </p:nvSpPr>
        <p:spPr>
          <a:xfrm>
            <a:off x="3021120" y="5897520"/>
            <a:ext cx="985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5818320" y="5792760"/>
            <a:ext cx="985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692360" y="55609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966000" y="5505480"/>
            <a:ext cx="20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7"/>
          <p:cNvSpPr/>
          <p:nvPr/>
        </p:nvSpPr>
        <p:spPr>
          <a:xfrm flipH="1" rot="10800000">
            <a:off x="5151960" y="4836600"/>
            <a:ext cx="1538280" cy="106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958" y="0"/>
                </a:moveTo>
                <a:cubicBezTo>
                  <a:pt x="4479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5553"/>
                  <a:pt x="21600" y="9506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Group 8"/>
          <p:cNvGrpSpPr/>
          <p:nvPr/>
        </p:nvGrpSpPr>
        <p:grpSpPr>
          <a:xfrm>
            <a:off x="4006800" y="5432400"/>
            <a:ext cx="1800360" cy="938160"/>
            <a:chOff x="4006800" y="5432400"/>
            <a:chExt cx="1800360" cy="938160"/>
          </a:xfrm>
        </p:grpSpPr>
        <p:sp>
          <p:nvSpPr>
            <p:cNvPr id="138" name="Rectangle 9"/>
            <p:cNvSpPr/>
            <p:nvPr/>
          </p:nvSpPr>
          <p:spPr>
            <a:xfrm>
              <a:off x="4006800" y="5432400"/>
              <a:ext cx="1800360" cy="938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49760" y="5432400"/>
              <a:ext cx="5144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Ic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Line 11"/>
          <p:cNvSpPr/>
          <p:nvPr/>
        </p:nvSpPr>
        <p:spPr>
          <a:xfrm>
            <a:off x="5794200" y="6191280"/>
            <a:ext cx="98604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6942240" y="5905440"/>
            <a:ext cx="207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flected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Water in the dam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143" name="Group 2"/>
          <p:cNvGrpSpPr/>
          <p:nvPr/>
        </p:nvGrpSpPr>
        <p:grpSpPr>
          <a:xfrm>
            <a:off x="2998800" y="1627200"/>
            <a:ext cx="1800360" cy="938160"/>
            <a:chOff x="2998800" y="1627200"/>
            <a:chExt cx="1800360" cy="938160"/>
          </a:xfrm>
        </p:grpSpPr>
        <p:sp>
          <p:nvSpPr>
            <p:cNvPr id="144" name="Rectangle 3"/>
            <p:cNvSpPr/>
            <p:nvPr/>
          </p:nvSpPr>
          <p:spPr>
            <a:xfrm>
              <a:off x="2998800" y="1627200"/>
              <a:ext cx="1800360" cy="938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4"/>
            <p:cNvSpPr/>
            <p:nvPr/>
          </p:nvSpPr>
          <p:spPr>
            <a:xfrm>
              <a:off x="3508560" y="1627200"/>
              <a:ext cx="7808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Dam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Line 5"/>
          <p:cNvSpPr/>
          <p:nvPr/>
        </p:nvSpPr>
        <p:spPr>
          <a:xfrm>
            <a:off x="2013120" y="2092320"/>
            <a:ext cx="985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3565440" y="3571920"/>
            <a:ext cx="1800360" cy="936720"/>
            <a:chOff x="3565440" y="3571920"/>
            <a:chExt cx="1800360" cy="936720"/>
          </a:xfrm>
        </p:grpSpPr>
        <p:sp>
          <p:nvSpPr>
            <p:cNvPr id="148" name="Rectangle 7"/>
            <p:cNvSpPr/>
            <p:nvPr/>
          </p:nvSpPr>
          <p:spPr>
            <a:xfrm>
              <a:off x="3565440" y="3571920"/>
              <a:ext cx="1800360" cy="936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4136760" y="3571920"/>
              <a:ext cx="657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Cit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Line 9"/>
          <p:cNvSpPr/>
          <p:nvPr/>
        </p:nvSpPr>
        <p:spPr>
          <a:xfrm>
            <a:off x="4809960" y="2133720"/>
            <a:ext cx="986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Shape 10"/>
          <p:cNvSpPr/>
          <p:nvPr/>
        </p:nvSpPr>
        <p:spPr>
          <a:xfrm flipH="1">
            <a:off x="4465080" y="4041720"/>
            <a:ext cx="1438200" cy="122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091" y="0"/>
                </a:moveTo>
                <a:cubicBezTo>
                  <a:pt x="4045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4900"/>
                  <a:pt x="21600" y="82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11"/>
          <p:cNvSpPr/>
          <p:nvPr/>
        </p:nvSpPr>
        <p:spPr>
          <a:xfrm flipV="1">
            <a:off x="4465800" y="2349360"/>
            <a:ext cx="944280" cy="122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5640" y="1755360"/>
            <a:ext cx="100980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6012000" y="4260960"/>
            <a:ext cx="13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5886360" y="177336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Generate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5221440" y="2781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nsum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539640" y="573264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The information delivered by a feedback can only affect future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ype 1: Balancing feedback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(Also negative, self-correcting, discrepancy-reducing, regenerat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quilibrating or goal-seeking struc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image.pdf"/>
          <p:cNvPicPr/>
          <p:nvPr/>
        </p:nvPicPr>
        <p:blipFill>
          <a:blip r:embed="rId1"/>
          <a:stretch/>
        </p:blipFill>
        <p:spPr>
          <a:xfrm>
            <a:off x="1806480" y="2997360"/>
            <a:ext cx="564516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Coffee Cups Cooling or Warming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Stock: coffee temperature(t) = coffee temperature(t – dt) – flow x d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itial stock: coffee temperature = 8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, 2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, 5</a:t>
            </a:r>
            <a:r>
              <a:rPr b="0" lang="pt-BR" sz="2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t = minu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t = 1 minu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Run time = 20 minu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Flow: discrepancy x 1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iscrepancy: coffee temperature – room tempera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Room temperature: 2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ype 2: Reinforcing feedback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(Also positive, self-reinforcing, discrepancy-enhancing, degenerat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elf-enhancing behavior that leads to growth or even collap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image.pdf"/>
          <p:cNvPicPr/>
          <p:nvPr/>
        </p:nvPicPr>
        <p:blipFill>
          <a:blip r:embed="rId1"/>
          <a:stretch/>
        </p:blipFill>
        <p:spPr>
          <a:xfrm>
            <a:off x="2195640" y="3357720"/>
            <a:ext cx="54054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dro R. Andrade</dc:creator>
  <dc:description/>
  <dc:language>en-US</dc:language>
  <cp:lastModifiedBy>pedrorib81 pedrorib81</cp:lastModifiedBy>
  <dcterms:modified xsi:type="dcterms:W3CDTF">2019-07-10T19:52:37Z</dcterms:modified>
  <cp:revision>3</cp:revision>
  <dc:subject/>
  <dc:title>Feedbacks</dc:title>
</cp:coreProperties>
</file>